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F73-B998-42BE-987E-D1BE2893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CB9-BDDB-4FAC-B54B-B5EF3CA5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26C-7038-4641-83D6-5A7F47FF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DED-1E21-4CDA-BD8C-94793A77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0673-8AA1-4A30-890E-6A1411C2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C9EE-744F-4CA8-9F76-AF4BDADB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AAA4-CF61-4C0C-B557-D8BF2470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DA02-4AE1-40F2-B06E-3B98678C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F2D1-F39C-474C-B682-598295D2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24C8-EA21-4DD0-9E5E-6C2C4A00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055F-0DAE-4B08-BC00-6609D1B5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8F9-F57C-4469-AABA-36191A94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48FB-10AC-4E07-9F9B-86C51C4A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7CBD-FC29-42F2-B6A7-920D441B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C7A7-8249-435A-8188-3A85F59E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9511-2210-406C-BB99-A3590AA8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DE27-B889-468A-85EB-C710C668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6ADB-D34D-4338-A321-7C76B37E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DE4C-D408-43A2-BBAC-8F0A7AEA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220BF-6B64-4A85-A36C-87086452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B498-3BE6-4C6A-918E-65E80480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50EB-231B-4199-AD88-EB867823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E62-4E92-433B-80B1-6F196510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BDBDA-B1D5-4B00-9BE1-C89C683B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700DF-E347-4CB4-B5BE-8F095EFD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8C448-719F-478A-9F12-C413E704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049D8-5DD4-433B-B3BA-2B2A5131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FA95-2579-4B68-B49D-4B62C419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C187F-15B1-4FF4-9101-E46E5BCA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FDA74-028E-4D0E-BF35-724A7676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2FCAA-4777-4F8C-B8F7-2E130F7B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1D4E7-7DFF-46BE-BA8B-079F5B37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5454D-E02A-4C3C-99E0-E64F091E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8F8-8C0D-4D05-96E3-5381513D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C7443-F86E-46D4-8A4D-96583F6A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59A2E-0AF7-4A87-BFE6-1E74A1F6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87EF-2665-4031-9C88-6A2F6B46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47BFE-3A6E-462A-9418-04D6C2B5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C617E-E3D1-4180-A09A-48322D5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9F02F-5D41-4A94-90B1-0771F492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EF1B4-01D2-4065-93C4-4F50F274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A174-2310-4D8F-8605-DC5042B4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423B1-A745-4EA1-A895-90CAD194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947-138F-45DD-B230-DDED8D6B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253-0897-4DB3-ADC8-1C462C3E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B6E-9033-4C44-8345-F374A64F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1E8-ECB0-4DFE-B623-F051FCD9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8B5-1F5A-44AF-AC6D-7E5414BF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16F0-0D18-467E-B659-330F4052B43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A597-45D4-40A6-B0C7-CF0C4DF567F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DC6F-DA56-48E1-A82E-E42FEFCB067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E3E9-8989-4FF4-9653-DF28EE038C9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88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72428"/>
                </a:solidFill>
                <a:latin typeface="Constantia"/>
              </a:rPr>
              <a:t>«</a:t>
            </a:r>
            <a:r>
              <a:rPr b="1" lang="ru-RU" sz="4000" spc="-1" strike="noStrike">
                <a:solidFill>
                  <a:srgbClr val="072428"/>
                </a:solidFill>
                <a:latin typeface="Constantia"/>
              </a:rPr>
              <a:t>Составление и решение задач»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Физминут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85880" y="1214280"/>
          <a:ext cx="5757840" cy="37180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000"/>
                <a:gridCol w="576360"/>
                <a:gridCol w="574560"/>
                <a:gridCol w="576360"/>
                <a:gridCol w="576360"/>
                <a:gridCol w="574560"/>
                <a:gridCol w="5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Box 4"/>
          <p:cNvSpPr/>
          <p:nvPr/>
        </p:nvSpPr>
        <p:spPr>
          <a:xfrm>
            <a:off x="714240" y="510372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Проговаривая  числа  четвёртой  строки –  приседае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Рисунок 5" descr="KIDS01.gif"/>
          <p:cNvPicPr/>
          <p:nvPr/>
        </p:nvPicPr>
        <p:blipFill>
          <a:blip r:embed="rId1"/>
          <a:stretch/>
        </p:blipFill>
        <p:spPr>
          <a:xfrm>
            <a:off x="6858000" y="2571840"/>
            <a:ext cx="1857240" cy="12859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Физминут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85880" y="1214280"/>
          <a:ext cx="5757840" cy="37180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000"/>
                <a:gridCol w="576360"/>
                <a:gridCol w="574560"/>
                <a:gridCol w="576360"/>
                <a:gridCol w="576360"/>
                <a:gridCol w="574560"/>
                <a:gridCol w="576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Box 4"/>
          <p:cNvSpPr/>
          <p:nvPr/>
        </p:nvSpPr>
        <p:spPr>
          <a:xfrm>
            <a:off x="714240" y="5103720"/>
            <a:ext cx="79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nstantia"/>
              </a:rPr>
              <a:t>Проговаривая  числа  первой  строки – делаем наклоны в сторон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Рисунок 5" descr="KIDS01.gif"/>
          <p:cNvPicPr/>
          <p:nvPr/>
        </p:nvPicPr>
        <p:blipFill>
          <a:blip r:embed="rId1"/>
          <a:stretch/>
        </p:blipFill>
        <p:spPr>
          <a:xfrm>
            <a:off x="6858000" y="2571840"/>
            <a:ext cx="185724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Содержимое 3" descr="56"/>
          <p:cNvPicPr/>
          <p:nvPr/>
        </p:nvPicPr>
        <p:blipFill>
          <a:blip r:embed="rId1"/>
          <a:stretch/>
        </p:blipFill>
        <p:spPr>
          <a:xfrm>
            <a:off x="1285920" y="500040"/>
            <a:ext cx="7500960" cy="58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3" descr="14"/>
          <p:cNvPicPr/>
          <p:nvPr/>
        </p:nvPicPr>
        <p:blipFill>
          <a:blip r:embed="rId1"/>
          <a:srcRect l="0" t="0" r="0" b="26474"/>
          <a:stretch/>
        </p:blipFill>
        <p:spPr>
          <a:xfrm>
            <a:off x="785880" y="500040"/>
            <a:ext cx="7429320" cy="58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1"/>
          <a:srcRect l="0" t="0" r="0" b="10943"/>
          <a:stretch/>
        </p:blipFill>
        <p:spPr>
          <a:xfrm>
            <a:off x="755640" y="549360"/>
            <a:ext cx="7848720" cy="576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"/>
          <p:cNvPicPr/>
          <p:nvPr/>
        </p:nvPicPr>
        <p:blipFill>
          <a:blip r:embed="rId1"/>
          <a:srcRect l="0" t="0" r="0" b="10130"/>
          <a:stretch/>
        </p:blipFill>
        <p:spPr>
          <a:xfrm>
            <a:off x="826920" y="476280"/>
            <a:ext cx="7777440" cy="576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rcRect l="0" t="0" r="0" b="10672"/>
          <a:stretch/>
        </p:blipFill>
        <p:spPr>
          <a:xfrm>
            <a:off x="611280" y="549360"/>
            <a:ext cx="7921440" cy="5832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rcRect l="0" t="0" r="0" b="10798"/>
          <a:stretch/>
        </p:blipFill>
        <p:spPr>
          <a:xfrm>
            <a:off x="755640" y="549360"/>
            <a:ext cx="7777080" cy="5718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rcRect l="0" t="0" r="0" b="10427"/>
          <a:stretch/>
        </p:blipFill>
        <p:spPr>
          <a:xfrm>
            <a:off x="755640" y="620640"/>
            <a:ext cx="7704000" cy="568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1:20:34Z</dcterms:created>
  <dc:creator>Admin</dc:creator>
  <dc:description/>
  <dc:language>en-US</dc:language>
  <cp:lastModifiedBy>1</cp:lastModifiedBy>
  <dcterms:modified xsi:type="dcterms:W3CDTF">2012-02-07T18:58:46Z</dcterms:modified>
  <cp:revision>3</cp:revision>
  <dc:subject/>
  <dc:title>Урок математики во 2 классе</dc:title>
</cp:coreProperties>
</file>