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18.jpeg" ContentType="image/jpeg"/>
  <Override PartName="/ppt/media/image17.jpeg" ContentType="image/jpeg"/>
  <Override PartName="/ppt/media/image13.png" ContentType="image/png"/>
  <Override PartName="/ppt/media/image8.png" ContentType="image/png"/>
  <Override PartName="/ppt/media/image12.wmf" ContentType="image/x-wmf"/>
  <Override PartName="/ppt/media/chimes.wav" ContentType="audio/x-wav"/>
  <Override PartName="/ppt/media/image16.png" ContentType="image/png"/>
  <Override PartName="/ppt/media/image4.wmf" ContentType="image/x-wmf"/>
  <Override PartName="/ppt/media/image19.gif" ContentType="image/gi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E96-8A0C-4AE5-9690-2292BB6E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6EF-2B97-4579-8F18-CFAE92A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4B2-51D4-44DD-9C63-70622358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777-891B-42F1-89D8-A2621439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9BDC-EF24-4D9D-B1F5-1A651384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A7C0-2703-4949-B03C-C0C6F9E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FCB-9480-45D5-BE79-C8C0A12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6958-4A17-4A33-A44E-215C0E4B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427-E17C-454E-BF09-662CBBE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3302-A4D6-419E-931E-A167962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E7D-64CB-441A-8312-DDB1788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8A8-ED51-427D-B0AB-99C34C4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BF5-2E76-4B48-B97A-0B5F96D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1F66-230F-45B2-9815-EB20867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633D-EEFF-4085-AF51-3D06A3D2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A941-4126-4991-B0BA-F6DC983F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368C-365A-4932-9763-A666508D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AF2-FCE6-4AE6-860A-1EAF8AAB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687-2358-42C1-9CBE-1FEC0D6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18B-3941-43B6-B8E0-8DCA87D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6F9-0CF6-40F4-A2E4-291CF52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298-D27E-45C4-A2DA-6D4FDAC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514-ED49-4ECA-8965-349260F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E09-53CA-44FA-A853-B0A9398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DDC4-B621-41B2-8295-DAFF9AA190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765-3E76-4E62-8A46-C225B86258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Проект «Четырёхуголь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Автор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Краткая аннотаци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Основополагающий вопр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План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Источни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145ed"/>
                </a:solidFill>
                <a:latin typeface="Arial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ямоугольник – параллелограм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все углы прямы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95360" y="350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0200" y="1928880"/>
            <a:ext cx="621504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 - 6 наследство от параллел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7. Две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8. Диагонали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9. Углы по 90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ямоугольник, у которог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больш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ирины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имерно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,6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р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олотым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00040" y="2286000"/>
            <a:ext cx="1500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2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2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8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22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9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46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6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8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71680" y="0"/>
            <a:ext cx="82580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омб–параллелограм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 все стороны рав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6640" y="4001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357280" y="1571760"/>
            <a:ext cx="62154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 - 6 наследство от параллел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7. Сторон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8. Диагонали перпендикуля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9. Диагонали являются биссектрисами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0. Диагонали являются осями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омб 8"/>
          <p:cNvSpPr/>
          <p:nvPr/>
        </p:nvSpPr>
        <p:spPr>
          <a:xfrm>
            <a:off x="571680" y="2071800"/>
            <a:ext cx="1285560" cy="1857240"/>
          </a:xfrm>
          <a:prstGeom prst="diamond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4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840"/>
                            </p:stCondLst>
                            <p:childTnLst>
                              <p:par>
                                <p:cTn id="3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4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90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18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82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94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3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вадрат – прямоугольн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все стороны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1200" y="43588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071880" y="2214720"/>
            <a:ext cx="5429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хлебник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бладает всеми свойствами параллелограм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ямоугольника и р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571680" y="1714680"/>
            <a:ext cx="2214360" cy="200016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2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92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62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1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70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57120" y="0"/>
            <a:ext cx="82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рапеция – четырёхугольник, у которого  две стороны  параллельны, а две другие стороны не 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71680" y="1546920"/>
            <a:ext cx="171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000240" y="1285920"/>
            <a:ext cx="5500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1. Две стороны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(основания), а две другие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араллельны (боковые сторон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2. У равнобедренной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боковые стороны, 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снованиях и диагонали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3. Равнобедренная 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имеет ось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ерединный перпендикуляр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снован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4. У прямоугольной трапеции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гла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8"/>
          <p:cNvSpPr/>
          <p:nvPr/>
        </p:nvSpPr>
        <p:spPr>
          <a:xfrm>
            <a:off x="714240" y="1500120"/>
            <a:ext cx="1857600" cy="85716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85840" y="361872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авнобедренная          Рис.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14200" y="5547240"/>
            <a:ext cx="335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Трапеция 12"/>
          <p:cNvSpPr/>
          <p:nvPr/>
        </p:nvSpPr>
        <p:spPr>
          <a:xfrm>
            <a:off x="785880" y="2928960"/>
            <a:ext cx="1643040" cy="100008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уга 13"/>
          <p:cNvSpPr/>
          <p:nvPr/>
        </p:nvSpPr>
        <p:spPr>
          <a:xfrm rot="16378200">
            <a:off x="2120040" y="3760920"/>
            <a:ext cx="500040" cy="428760"/>
          </a:xfrm>
          <a:prstGeom prst="pie">
            <a:avLst/>
          </a:prstGeom>
          <a:noFill/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Дуга 15"/>
          <p:cNvSpPr/>
          <p:nvPr/>
        </p:nvSpPr>
        <p:spPr>
          <a:xfrm rot="567000">
            <a:off x="603000" y="3681000"/>
            <a:ext cx="500040" cy="428760"/>
          </a:xfrm>
          <a:prstGeom prst="pie">
            <a:avLst/>
          </a:prstGeom>
          <a:noFill/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7"/>
          <p:cNvSpPr/>
          <p:nvPr/>
        </p:nvSpPr>
        <p:spPr>
          <a:xfrm flipV="1">
            <a:off x="2143080" y="3357720"/>
            <a:ext cx="285840" cy="7128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9"/>
          <p:cNvSpPr/>
          <p:nvPr/>
        </p:nvSpPr>
        <p:spPr>
          <a:xfrm flipV="1">
            <a:off x="785880" y="3357720"/>
            <a:ext cx="285840" cy="7128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20"/>
          <p:cNvSpPr/>
          <p:nvPr/>
        </p:nvSpPr>
        <p:spPr>
          <a:xfrm>
            <a:off x="642960" y="4857840"/>
            <a:ext cx="1643040" cy="857160"/>
          </a:xfrm>
          <a:prstGeom prst="pie">
            <a:avLst/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6"/>
          <p:cNvSpPr/>
          <p:nvPr/>
        </p:nvSpPr>
        <p:spPr>
          <a:xfrm flipV="1">
            <a:off x="2069280" y="5501880"/>
            <a:ext cx="1800" cy="21420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28"/>
          <p:cNvSpPr/>
          <p:nvPr/>
        </p:nvSpPr>
        <p:spPr>
          <a:xfrm>
            <a:off x="2071800" y="5500800"/>
            <a:ext cx="214200" cy="144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2"/>
          <p:cNvSpPr/>
          <p:nvPr/>
        </p:nvSpPr>
        <p:spPr>
          <a:xfrm flipH="1">
            <a:off x="2069640" y="4859280"/>
            <a:ext cx="1800" cy="21420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4"/>
          <p:cNvSpPr/>
          <p:nvPr/>
        </p:nvSpPr>
        <p:spPr>
          <a:xfrm>
            <a:off x="2071800" y="5072040"/>
            <a:ext cx="214200" cy="1440"/>
          </a:xfrm>
          <a:prstGeom prst="line">
            <a:avLst/>
          </a:prstGeom>
          <a:ln w="9360">
            <a:solidFill>
              <a:srgbClr val="00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48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930"/>
                            </p:stCondLst>
                            <p:childTnLst>
                              <p:par>
                                <p:cTn id="4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63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99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95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95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109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15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7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15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87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87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35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47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950"/>
                            </p:stCondLst>
                            <p:childTnLst>
                              <p:par>
                                <p:cTn id="5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7350"/>
                            </p:stCondLst>
                            <p:childTnLst>
                              <p:par>
                                <p:cTn id="5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450"/>
                            </p:stCondLst>
                            <p:childTnLst>
                              <p:par>
                                <p:cTn id="5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звания  четырёхугольников пришли из древней Греци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9680" y="1318680"/>
            <a:ext cx="82548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ραλληλογραμμον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– так и переводится с греческого языка «параллельно-линейный» или «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изображающийся параллельными» (π</a:t>
            </a:r>
            <a:r>
              <a:rPr b="1" i="1" lang="el-GR" sz="1800" spc="-1" strike="noStrike">
                <a:solidFill>
                  <a:srgbClr val="1f1f99"/>
                </a:solidFill>
                <a:latin typeface="Arial"/>
                <a:ea typeface="Arial"/>
              </a:rPr>
              <a:t>αραλληλοζ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 означает «параллельный», а </a:t>
            </a:r>
            <a:r>
              <a:rPr b="1" i="1" lang="el-GR" sz="1800" spc="-1" strike="noStrike">
                <a:solidFill>
                  <a:srgbClr val="1f1f99"/>
                </a:solidFill>
                <a:latin typeface="Arial"/>
                <a:ea typeface="Arial"/>
              </a:rPr>
              <a:t>γραμμα</a:t>
            </a:r>
            <a:r>
              <a:rPr b="1" i="1" lang="ru-RU" sz="1800" spc="-1" strike="noStrike">
                <a:solidFill>
                  <a:srgbClr val="1f1f99"/>
                </a:solidFill>
                <a:latin typeface="Arial"/>
                <a:ea typeface="Arial"/>
              </a:rPr>
              <a:t> – «линия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омб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происходит от латинского слова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mbus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ромбус) – латинской  формы греческого слова 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ό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μβ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ς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ромбос), означающего бубен. Мы привыкли к тому, что бубен имеет круглую форму, но раньше бубны имели форму квадрата или ромба, о чём свидетельствуют изображения «бубен» на игральных кар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Термин 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вадрат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» происходит от латинского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guadratum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guadrare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– сделать четырёхугольным), перевод с греческого «тетрагонон» – четырёх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Слов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рапеция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происходит от латинского слова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trapezium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(трапезиум) – латинской формы греческого слова 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τράπεςι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ν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трапезион) – столик. От этого же корня происходит наше слово «трапеза», означающее по-гречески стол.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именение   четырёхугольников  в природе и технике: параллелограм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28760" y="1571760"/>
            <a:ext cx="578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6429240" y="1643040"/>
            <a:ext cx="2013120" cy="1428840"/>
          </a:xfrm>
          <a:prstGeom prst="rect">
            <a:avLst/>
          </a:prstGeom>
          <a:ln w="0">
            <a:noFill/>
          </a:ln>
        </p:spPr>
      </p:pic>
      <p:sp>
        <p:nvSpPr>
          <p:cNvPr id="181" name="Параллелограмм 11"/>
          <p:cNvSpPr/>
          <p:nvPr/>
        </p:nvSpPr>
        <p:spPr>
          <a:xfrm>
            <a:off x="6572160" y="4143240"/>
            <a:ext cx="1785960" cy="1000440"/>
          </a:xfrm>
          <a:prstGeom prst="parallelogram">
            <a:avLst>
              <a:gd name="adj" fmla="val 24992"/>
            </a:avLst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3"/>
          <p:cNvCxnSpPr/>
          <p:nvPr/>
        </p:nvCxnSpPr>
        <p:spPr>
          <a:xfrm flipV="1">
            <a:off x="6571800" y="4142520"/>
            <a:ext cx="1786680" cy="100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>
            <a:off x="6643440" y="5143680"/>
            <a:ext cx="15008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19"/>
          <p:cNvCxnSpPr/>
          <p:nvPr/>
        </p:nvCxnSpPr>
        <p:spPr>
          <a:xfrm flipV="1">
            <a:off x="6572160" y="4142520"/>
            <a:ext cx="215280" cy="100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Rectangle 2"/>
          <p:cNvSpPr/>
          <p:nvPr/>
        </p:nvSpPr>
        <p:spPr>
          <a:xfrm>
            <a:off x="1285920" y="1285920"/>
            <a:ext cx="5072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1f1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В жизн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 – это рамы велосипедов, мотоциклов, где для жёсткости проведена диагон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1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В физике применяют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 при изучении сил, при нахождении равнодействующей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44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5072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ямоугольник несёт красоту,       чёткость, строй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глянитесь вокруг: стены, пол, потолок, поверхность стола, футбольное поле, грани карандашей, даже записная книжка – всё это прямоуголь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65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пробуйте построить дом или сделать раму для картины, не зная свойств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Program Files\Microsoft Office\MEDIA\CAGCAT10\j0235319.wmf"/>
          <p:cNvPicPr/>
          <p:nvPr/>
        </p:nvPicPr>
        <p:blipFill>
          <a:blip r:embed="rId1"/>
          <a:stretch/>
        </p:blipFill>
        <p:spPr>
          <a:xfrm>
            <a:off x="6072120" y="1428840"/>
            <a:ext cx="1428840" cy="1458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Program Files\Microsoft Office\MEDIA\CAGCAT10\j0205582.wmf"/>
          <p:cNvPicPr/>
          <p:nvPr/>
        </p:nvPicPr>
        <p:blipFill>
          <a:blip r:embed="rId2"/>
          <a:stretch/>
        </p:blipFill>
        <p:spPr>
          <a:xfrm>
            <a:off x="7000920" y="2714760"/>
            <a:ext cx="1465200" cy="1344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Program Files\Microsoft Office\MEDIA\CAGCAT10\j0196400.wmf"/>
          <p:cNvPicPr/>
          <p:nvPr/>
        </p:nvPicPr>
        <p:blipFill>
          <a:blip r:embed="rId3"/>
          <a:stretch/>
        </p:blipFill>
        <p:spPr>
          <a:xfrm>
            <a:off x="6572160" y="4286160"/>
            <a:ext cx="1357560" cy="14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Program Files\Microsoft Office\MEDIA\CAGCAT10\j0185604.wmf"/>
          <p:cNvPicPr/>
          <p:nvPr/>
        </p:nvPicPr>
        <p:blipFill>
          <a:blip r:embed="rId4"/>
          <a:stretch/>
        </p:blipFill>
        <p:spPr>
          <a:xfrm>
            <a:off x="5786280" y="314316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32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32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32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32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9240" y="1353960"/>
            <a:ext cx="6334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омб не имеет большого хозяйственного значения, зато его используют в искус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юбят его рисовать на тканях художники, используют в узорах ковровщ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литочники укладывают плитки в виде ромба, - из них получаются красивые уз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ечный домкрат для легковых автомобилей также имеет форму ром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643800" y="3643200"/>
            <a:ext cx="1323720" cy="895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6715080" y="5000760"/>
            <a:ext cx="1143000" cy="1174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8" descr="C:\Program Files\Microsoft Office\MEDIA\OFFICE12\Bullets\BD21306_.gif"/>
          <p:cNvPicPr/>
          <p:nvPr/>
        </p:nvPicPr>
        <p:blipFill>
          <a:blip r:embed="rId3"/>
          <a:stretch/>
        </p:blipFill>
        <p:spPr>
          <a:xfrm>
            <a:off x="7215120" y="2286000"/>
            <a:ext cx="717480" cy="1428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Program Files\Microsoft Office\MEDIA\CAGCAT10\j0157995.wmf"/>
          <p:cNvPicPr/>
          <p:nvPr/>
        </p:nvPicPr>
        <p:blipFill>
          <a:blip r:embed="rId4"/>
          <a:stretch/>
        </p:blipFill>
        <p:spPr>
          <a:xfrm>
            <a:off x="428760" y="1357200"/>
            <a:ext cx="76435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квадр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09600" y="1353960"/>
            <a:ext cx="6334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Ни наука, ни техника не обходятся без квадрата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. И в хозяйственных делах он тож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основании мраморных колонн лежит квад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аши товарищи, играя в шахматы, передвигают фигуры по квад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ы все его любим. Наши тетради разрисованы голубыми квадр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хирургическом отделении для пересадки кожи применяют специальную машину, которая вырезает кожу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сельском хозяйстве применяют квадратно-гнездовой способ пос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6215040" y="4429080"/>
            <a:ext cx="1441440" cy="176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6858000" y="1285920"/>
            <a:ext cx="1357200" cy="1649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j0225500[1]"/>
          <p:cNvPicPr/>
          <p:nvPr/>
        </p:nvPicPr>
        <p:blipFill>
          <a:blip r:embed="rId3"/>
          <a:stretch/>
        </p:blipFill>
        <p:spPr>
          <a:xfrm>
            <a:off x="5214960" y="2714760"/>
            <a:ext cx="2120760" cy="117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4"/>
          <a:stretch/>
        </p:blipFill>
        <p:spPr>
          <a:xfrm>
            <a:off x="7286760" y="3214800"/>
            <a:ext cx="131904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chimes.wav"/>
      </p:stSnd>
    </p:sndAc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именение четырёхугольников в природе и технике: трапе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09600" y="1353960"/>
            <a:ext cx="6334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1f99"/>
                </a:solidFill>
                <a:latin typeface="Arial"/>
              </a:rPr>
              <a:t>Сечение железнодорожной насыпи имеет вид равнобедренной трапеци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рыши домов могут иметь форму равнобедренной трапе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дна из мышц человеческого туловища имеет форму трапеции и называется трапециеви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конструкциях различных технических установок также можно встретить трап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апеции встречаются в моделях одеж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ксессуа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Program Files\Microsoft Office\MEDIA\CAGCAT10\j0195534.wmf"/>
          <p:cNvPicPr/>
          <p:nvPr/>
        </p:nvPicPr>
        <p:blipFill>
          <a:blip r:embed="rId1"/>
          <a:stretch/>
        </p:blipFill>
        <p:spPr>
          <a:xfrm>
            <a:off x="6286680" y="1357200"/>
            <a:ext cx="92844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F:\2010 23 дек\сканирование0020.jpg"/>
          <p:cNvPicPr/>
          <p:nvPr/>
        </p:nvPicPr>
        <p:blipFill>
          <a:blip r:embed="rId2"/>
          <a:stretch/>
        </p:blipFill>
        <p:spPr>
          <a:xfrm>
            <a:off x="7358040" y="1643040"/>
            <a:ext cx="1098720" cy="1787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6072120" y="2714760"/>
            <a:ext cx="1195560" cy="101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F:\2010 23 дек\сканирование0017.jpg"/>
          <p:cNvPicPr/>
          <p:nvPr/>
        </p:nvPicPr>
        <p:blipFill>
          <a:blip r:embed="rId4"/>
          <a:stretch/>
        </p:blipFill>
        <p:spPr>
          <a:xfrm>
            <a:off x="6357960" y="3857760"/>
            <a:ext cx="2227320" cy="1125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F:\2010 23 дек\сканирование0019.jpg"/>
          <p:cNvPicPr/>
          <p:nvPr/>
        </p:nvPicPr>
        <p:blipFill>
          <a:blip r:embed="rId5"/>
          <a:stretch/>
        </p:blipFill>
        <p:spPr>
          <a:xfrm>
            <a:off x="6500880" y="5214960"/>
            <a:ext cx="12142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Краткая анно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роект подготовлен с применением проектной технологии. Реализуется он в рамках программы по геометрии 8 класса по теме «Четырехугольники». Проект показывает, что источник возникновения изучаемой дисциплины это реальный мир, т. е. она возникла из практических потребностей людей. Проект включает в себя информационную и исследовательскую часть. Самостоятельные исследования, а также приобретённые практические знания, умения и навыки учат видеть важность данного теоретического материала при применении его на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Мы  побывали в семействе четырёхугольников и узнали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2143080"/>
            <a:ext cx="63342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297080"/>
          <a:ext cx="8858160" cy="5632200"/>
        </p:xfrm>
        <a:graphic>
          <a:graphicData uri="http://schemas.openxmlformats.org/drawingml/2006/table">
            <a:tbl>
              <a:tblPr/>
              <a:tblGrid>
                <a:gridCol w="376200"/>
                <a:gridCol w="3513240"/>
                <a:gridCol w="1081080"/>
                <a:gridCol w="792000"/>
                <a:gridCol w="936720"/>
                <a:gridCol w="1008000"/>
                <a:gridCol w="1150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СВОЙСТВА ЧЕТЫРЕХ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араллел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Ро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ямо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Квад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Равнобедренная трап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отиволежащие стороны параллельны и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Все стороны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Противолежащие углы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Все углы 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пересекаются и точкой пересечения делятся попо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ра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472"/>
                          </a:solidFill>
                          <a:latin typeface="Arial"/>
                        </a:rPr>
                        <a:t>Диагонали взаимно перпендикулярны и являются биссектрисами уг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81" descr="мордочка"/>
          <p:cNvPicPr/>
          <p:nvPr/>
        </p:nvPicPr>
        <p:blipFill>
          <a:blip r:embed="rId1"/>
          <a:stretch/>
        </p:blipFill>
        <p:spPr>
          <a:xfrm>
            <a:off x="435780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1" descr="мордочка"/>
          <p:cNvPicPr/>
          <p:nvPr/>
        </p:nvPicPr>
        <p:blipFill>
          <a:blip r:embed="rId2"/>
          <a:stretch/>
        </p:blipFill>
        <p:spPr>
          <a:xfrm>
            <a:off x="514368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1" descr="мордочка"/>
          <p:cNvPicPr/>
          <p:nvPr/>
        </p:nvPicPr>
        <p:blipFill>
          <a:blip r:embed="rId3"/>
          <a:stretch/>
        </p:blipFill>
        <p:spPr>
          <a:xfrm>
            <a:off x="6072120" y="2143080"/>
            <a:ext cx="432000" cy="42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1" descr="мордочка"/>
          <p:cNvPicPr/>
          <p:nvPr/>
        </p:nvPicPr>
        <p:blipFill>
          <a:blip r:embed="rId4"/>
          <a:stretch/>
        </p:blipFill>
        <p:spPr>
          <a:xfrm>
            <a:off x="7000920" y="214308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мордочка"/>
          <p:cNvPicPr/>
          <p:nvPr/>
        </p:nvPicPr>
        <p:blipFill>
          <a:blip r:embed="rId5"/>
          <a:stretch/>
        </p:blipFill>
        <p:spPr>
          <a:xfrm>
            <a:off x="5214960" y="2786040"/>
            <a:ext cx="347760" cy="42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1" descr="мордочка"/>
          <p:cNvPicPr/>
          <p:nvPr/>
        </p:nvPicPr>
        <p:blipFill>
          <a:blip r:embed="rId6"/>
          <a:stretch/>
        </p:blipFill>
        <p:spPr>
          <a:xfrm>
            <a:off x="6929280" y="278604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1" descr="мордочка"/>
          <p:cNvPicPr/>
          <p:nvPr/>
        </p:nvPicPr>
        <p:blipFill>
          <a:blip r:embed="rId7"/>
          <a:stretch/>
        </p:blipFill>
        <p:spPr>
          <a:xfrm>
            <a:off x="4286160" y="33577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1" descr="мордочка"/>
          <p:cNvPicPr/>
          <p:nvPr/>
        </p:nvPicPr>
        <p:blipFill>
          <a:blip r:embed="rId8"/>
          <a:stretch/>
        </p:blipFill>
        <p:spPr>
          <a:xfrm>
            <a:off x="5214960" y="33577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1" descr="мордочка"/>
          <p:cNvPicPr/>
          <p:nvPr/>
        </p:nvPicPr>
        <p:blipFill>
          <a:blip r:embed="rId9"/>
          <a:stretch/>
        </p:blipFill>
        <p:spPr>
          <a:xfrm>
            <a:off x="6000840" y="33577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1" descr="мордочка"/>
          <p:cNvPicPr/>
          <p:nvPr/>
        </p:nvPicPr>
        <p:blipFill>
          <a:blip r:embed="rId10"/>
          <a:stretch/>
        </p:blipFill>
        <p:spPr>
          <a:xfrm>
            <a:off x="6929280" y="33577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1" descr="мордочка"/>
          <p:cNvPicPr/>
          <p:nvPr/>
        </p:nvPicPr>
        <p:blipFill>
          <a:blip r:embed="rId11"/>
          <a:stretch/>
        </p:blipFill>
        <p:spPr>
          <a:xfrm>
            <a:off x="6072120" y="392904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1" descr="мордочка"/>
          <p:cNvPicPr/>
          <p:nvPr/>
        </p:nvPicPr>
        <p:blipFill>
          <a:blip r:embed="rId12"/>
          <a:stretch/>
        </p:blipFill>
        <p:spPr>
          <a:xfrm>
            <a:off x="7000920" y="392904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1" descr="мордочка"/>
          <p:cNvPicPr/>
          <p:nvPr/>
        </p:nvPicPr>
        <p:blipFill>
          <a:blip r:embed="rId13"/>
          <a:stretch/>
        </p:blipFill>
        <p:spPr>
          <a:xfrm>
            <a:off x="6929280" y="47149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1" descr="мордочка"/>
          <p:cNvPicPr/>
          <p:nvPr/>
        </p:nvPicPr>
        <p:blipFill>
          <a:blip r:embed="rId14"/>
          <a:stretch/>
        </p:blipFill>
        <p:spPr>
          <a:xfrm>
            <a:off x="6072120" y="47149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1" descr="мордочка"/>
          <p:cNvPicPr/>
          <p:nvPr/>
        </p:nvPicPr>
        <p:blipFill>
          <a:blip r:embed="rId15"/>
          <a:stretch/>
        </p:blipFill>
        <p:spPr>
          <a:xfrm>
            <a:off x="5143680" y="47149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1" descr="мордочка"/>
          <p:cNvPicPr/>
          <p:nvPr/>
        </p:nvPicPr>
        <p:blipFill>
          <a:blip r:embed="rId16"/>
          <a:stretch/>
        </p:blipFill>
        <p:spPr>
          <a:xfrm>
            <a:off x="4214880" y="4714920"/>
            <a:ext cx="431640" cy="423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1" descr="мордочка"/>
          <p:cNvPicPr/>
          <p:nvPr/>
        </p:nvPicPr>
        <p:blipFill>
          <a:blip r:embed="rId17"/>
          <a:stretch/>
        </p:blipFill>
        <p:spPr>
          <a:xfrm>
            <a:off x="6072120" y="5429160"/>
            <a:ext cx="432000" cy="4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1" descr="мордочка"/>
          <p:cNvPicPr/>
          <p:nvPr/>
        </p:nvPicPr>
        <p:blipFill>
          <a:blip r:embed="rId18"/>
          <a:stretch/>
        </p:blipFill>
        <p:spPr>
          <a:xfrm>
            <a:off x="7000920" y="542916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1" descr="мордочка"/>
          <p:cNvPicPr/>
          <p:nvPr/>
        </p:nvPicPr>
        <p:blipFill>
          <a:blip r:embed="rId19"/>
          <a:stretch/>
        </p:blipFill>
        <p:spPr>
          <a:xfrm>
            <a:off x="5214960" y="607212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1" descr="мордочка"/>
          <p:cNvPicPr/>
          <p:nvPr/>
        </p:nvPicPr>
        <p:blipFill>
          <a:blip r:embed="rId20"/>
          <a:stretch/>
        </p:blipFill>
        <p:spPr>
          <a:xfrm>
            <a:off x="7000920" y="6072120"/>
            <a:ext cx="431640" cy="424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1" descr="мордочка"/>
          <p:cNvPicPr/>
          <p:nvPr/>
        </p:nvPicPr>
        <p:blipFill>
          <a:blip r:embed="rId21"/>
          <a:stretch/>
        </p:blipFill>
        <p:spPr>
          <a:xfrm>
            <a:off x="8001000" y="5429160"/>
            <a:ext cx="431640" cy="4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2" name="chimes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новополагающий вопр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сновополагающий вопрос: Что произойдет, если четырехугольников не будет среди на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правляющи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1) Мир четырехугольников. Какой о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2) Зачем мы изучаем четырехугольни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3) Какое применение находят четырехугольники в природе и техни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4) Что связывает четырехугольники между соб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5) Чем интересны четырехуголь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План проек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840" y="135684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1)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2) Обсуждение с учителем данной проблемы и поиск её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3) Выбор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4) Обсуждение план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5) Поиск, отбор и анализ нужной информации из научной литературы и сети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nternet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)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7) Подготовка презентации по отчёту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8) Презен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9) Обсуждение и подведение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сточники информа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356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1). Л. С. Атанасян, В. Ф. Бутузов и др., «Геометр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7 –  9 кл., «Просвещение»,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2). И. Ф. Шарыгин,Л. Н. Ерганжиева, «Нагляд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я» 5 – 6 кл., М.«Дрофа»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3). Г. И. Глейзер, «История математики в школе», 7 – 8 кл., М. «Просвещение», 198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4). В. А. Панчищина, Э. Г. Гельфман и др., «Геометрия», ч. 1, издательство Томского университета, Томск,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5). Н. Лэнгдон, Ч. Снейп «С математикой в путь», М.,    «Педагогика»,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). Информация из сети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nternet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285840" y="1643040"/>
            <a:ext cx="81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етырёхугольн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14200" y="3357720"/>
            <a:ext cx="8158320" cy="12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74760" y="5429160"/>
            <a:ext cx="80719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: Пыленок Алексей Петрович, Брянская об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зыбковский район, Верещакская СОШ, 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 кла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500200" y="3429000"/>
            <a:ext cx="128592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араллелограмм 5"/>
          <p:cNvSpPr/>
          <p:nvPr/>
        </p:nvSpPr>
        <p:spPr>
          <a:xfrm>
            <a:off x="785880" y="3429000"/>
            <a:ext cx="1428840" cy="714240"/>
          </a:xfrm>
          <a:prstGeom prst="parallelogram">
            <a:avLst>
              <a:gd name="adj" fmla="val 25006"/>
            </a:avLst>
          </a:prstGeom>
          <a:solidFill>
            <a:srgbClr val="9999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Трапеция 6"/>
          <p:cNvSpPr/>
          <p:nvPr/>
        </p:nvSpPr>
        <p:spPr>
          <a:xfrm>
            <a:off x="6572160" y="3429000"/>
            <a:ext cx="1285920" cy="928800"/>
          </a:xfrm>
          <a:prstGeom prst="pie">
            <a:avLst/>
          </a:prstGeom>
          <a:solidFill>
            <a:srgbClr val="7030a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омб 7"/>
          <p:cNvSpPr/>
          <p:nvPr/>
        </p:nvSpPr>
        <p:spPr>
          <a:xfrm>
            <a:off x="4000680" y="3286080"/>
            <a:ext cx="928440" cy="142884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5143680" y="3429000"/>
            <a:ext cx="1143000" cy="1000080"/>
          </a:xfrm>
          <a:prstGeom prst="rect">
            <a:avLst/>
          </a:prstGeom>
          <a:solidFill>
            <a:srgbClr val="0070c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9"/>
          <p:cNvSpPr/>
          <p:nvPr/>
        </p:nvSpPr>
        <p:spPr>
          <a:xfrm>
            <a:off x="7643880" y="62866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8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Четырёхугольни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285920" y="2900880"/>
            <a:ext cx="12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14280" y="525852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786120" y="1714680"/>
            <a:ext cx="46436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99"/>
                </a:solidFill>
                <a:latin typeface="Monotype Corsiva"/>
              </a:rPr>
              <a:t>Выпук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99"/>
                </a:solidFill>
                <a:latin typeface="Monotype Corsiva"/>
              </a:rPr>
              <a:t>Невыпук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1"/>
          <p:cNvSpPr/>
          <p:nvPr/>
        </p:nvSpPr>
        <p:spPr>
          <a:xfrm flipV="1">
            <a:off x="1000080" y="1500120"/>
            <a:ext cx="10717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3"/>
          <p:cNvSpPr/>
          <p:nvPr/>
        </p:nvSpPr>
        <p:spPr>
          <a:xfrm>
            <a:off x="2071800" y="1500120"/>
            <a:ext cx="100008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5"/>
          <p:cNvSpPr/>
          <p:nvPr/>
        </p:nvSpPr>
        <p:spPr>
          <a:xfrm flipH="1">
            <a:off x="3069720" y="1500120"/>
            <a:ext cx="1800" cy="16430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7"/>
          <p:cNvSpPr/>
          <p:nvPr/>
        </p:nvSpPr>
        <p:spPr>
          <a:xfrm>
            <a:off x="1000080" y="2428920"/>
            <a:ext cx="2071800" cy="714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1643040" y="12859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9"/>
          <p:cNvSpPr/>
          <p:nvPr/>
        </p:nvSpPr>
        <p:spPr>
          <a:xfrm>
            <a:off x="3143160" y="1428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0"/>
          <p:cNvSpPr/>
          <p:nvPr/>
        </p:nvSpPr>
        <p:spPr>
          <a:xfrm>
            <a:off x="71424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1"/>
          <p:cNvSpPr/>
          <p:nvPr/>
        </p:nvSpPr>
        <p:spPr>
          <a:xfrm>
            <a:off x="3143160" y="3000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3"/>
          <p:cNvSpPr/>
          <p:nvPr/>
        </p:nvSpPr>
        <p:spPr>
          <a:xfrm flipV="1">
            <a:off x="1071720" y="4000320"/>
            <a:ext cx="1428480" cy="1143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5"/>
          <p:cNvSpPr/>
          <p:nvPr/>
        </p:nvSpPr>
        <p:spPr>
          <a:xfrm>
            <a:off x="2500200" y="4000680"/>
            <a:ext cx="928800" cy="17856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7"/>
          <p:cNvSpPr/>
          <p:nvPr/>
        </p:nvSpPr>
        <p:spPr>
          <a:xfrm flipV="1">
            <a:off x="1071720" y="4785840"/>
            <a:ext cx="1214280" cy="3574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39"/>
          <p:cNvSpPr/>
          <p:nvPr/>
        </p:nvSpPr>
        <p:spPr>
          <a:xfrm>
            <a:off x="2286000" y="4786200"/>
            <a:ext cx="1143000" cy="10414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2"/>
          <p:cNvSpPr/>
          <p:nvPr/>
        </p:nvSpPr>
        <p:spPr>
          <a:xfrm>
            <a:off x="642960" y="4857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2571840" y="3857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3429000" y="5643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2071800" y="4929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8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8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44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16768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араллелограмм        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ямоугольник        Ро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3"/>
          <p:cNvSpPr/>
          <p:nvPr/>
        </p:nvSpPr>
        <p:spPr>
          <a:xfrm rot="1674600">
            <a:off x="3000240" y="127332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14"/>
          <p:cNvSpPr/>
          <p:nvPr/>
        </p:nvSpPr>
        <p:spPr>
          <a:xfrm rot="1674600">
            <a:off x="2428920" y="2558880"/>
            <a:ext cx="42876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15"/>
          <p:cNvSpPr/>
          <p:nvPr/>
        </p:nvSpPr>
        <p:spPr>
          <a:xfrm rot="20290200">
            <a:off x="4046400" y="262548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16"/>
          <p:cNvSpPr/>
          <p:nvPr/>
        </p:nvSpPr>
        <p:spPr>
          <a:xfrm rot="20059800">
            <a:off x="5990760" y="120024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17"/>
          <p:cNvSpPr/>
          <p:nvPr/>
        </p:nvSpPr>
        <p:spPr>
          <a:xfrm>
            <a:off x="4357800" y="4214880"/>
            <a:ext cx="4284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8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36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85920" y="120600"/>
            <a:ext cx="8258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араллелограмм – четырёхугольни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 которого противоположные ст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парно 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33240" y="28566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араллелограмм 5"/>
          <p:cNvSpPr/>
          <p:nvPr/>
        </p:nvSpPr>
        <p:spPr>
          <a:xfrm>
            <a:off x="428760" y="1785960"/>
            <a:ext cx="1928520" cy="928800"/>
          </a:xfrm>
          <a:prstGeom prst="parallelogram">
            <a:avLst>
              <a:gd name="adj" fmla="val 24993"/>
            </a:avLst>
          </a:prstGeom>
          <a:solidFill>
            <a:srgbClr val="00b0f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7"/>
          <p:cNvSpPr/>
          <p:nvPr/>
        </p:nvSpPr>
        <p:spPr>
          <a:xfrm flipV="1">
            <a:off x="428760" y="1785960"/>
            <a:ext cx="19285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9"/>
          <p:cNvSpPr/>
          <p:nvPr/>
        </p:nvSpPr>
        <p:spPr>
          <a:xfrm>
            <a:off x="642960" y="1785960"/>
            <a:ext cx="1500120" cy="928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357280" y="1571760"/>
            <a:ext cx="62154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сторон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стороны параллель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Противоположные углы ра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умма углов, прилежащих к одной стороне равна 180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Диагонали точкой пересечения делятся попо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buClr>
                <a:srgbClr val="1f1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Точка пересечения диагоналей является центром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32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19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38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4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9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98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7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46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8:13Z</dcterms:created>
  <dc:creator>Zaitseva Irina</dc:creator>
  <dc:description/>
  <dc:language>en-US</dc:language>
  <cp:lastModifiedBy>FuckYouBill</cp:lastModifiedBy>
  <dcterms:modified xsi:type="dcterms:W3CDTF">2010-12-27T19:27:22Z</dcterms:modified>
  <cp:revision>119</cp:revision>
  <dc:subject/>
  <dc:title>Платоновы тела, 10 класс</dc:title>
</cp:coreProperties>
</file>