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6B63-79A6-4180-8BF8-38637B443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6333-B368-4C82-97B4-B15965666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4A6F-D459-4CA6-B477-CDD337D03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7D52-DA35-4DD4-993C-BEA8CD0DF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55D9E-C0D0-4F29-8FA5-956DD108C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AE336-D46C-4C9E-A90A-CED96E060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A2DA5-F112-4D43-B8CA-F086B7E23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DD657-14A7-4895-AFA7-51862A754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30694-B68B-45CB-A840-C4964203E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AE377-61D1-4A9F-A977-40D545CDC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5B9AE-3B70-4AAB-80BE-AE545611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A3A6-95BF-43C7-B4DB-8BEB07C5A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45743-D850-42A3-8D36-1A9B79A1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3D9D2-D7C2-4CEB-AB83-FA50728B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0401A-C8D7-4AF1-AEAA-FD3285A90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8FE62-2579-438B-9A49-489D21156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7D703-FFB0-47F6-828E-6211A1F0D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9F18-86ED-4627-A862-9B76C2E4B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C2EA-0539-4833-958E-A5F19593B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E288-B991-48C9-9C4C-7C9BBFE6D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926D-E780-4F06-A26B-EA43A4462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F9B9-34B4-4182-874E-9A06E03C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2D6D-93EB-4886-A4E0-7E95573C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1E5F-8031-4E23-A056-BF537FD4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E814E-1C34-4B52-9A47-74CAC4A035D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646F6-629E-44EB-9CF5-D27D74A307E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836640"/>
            <a:ext cx="8218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Исследовательская работа на тему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«Песенное народное творчество села Верещаки: история и современность».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2637000"/>
            <a:ext cx="813600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r>
              <a:rPr b="0" lang="en-US" sz="2000" spc="-1" strike="noStrike">
                <a:solidFill>
                  <a:srgbClr val="66ffcc"/>
                </a:solidFill>
                <a:latin typeface="Tahoma"/>
              </a:rPr>
              <a:t>Деренок Евгения Викторович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Tahoma"/>
              </a:rPr>
              <a:t>                                 </a:t>
            </a:r>
            <a:r>
              <a:rPr b="0" lang="en-US" sz="2000" spc="-1" strike="noStrike">
                <a:solidFill>
                  <a:srgbClr val="66ffcc"/>
                </a:solidFill>
                <a:latin typeface="Tahoma"/>
              </a:rPr>
              <a:t>ученика 10 клас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Tahoma"/>
              </a:rPr>
              <a:t>           </a:t>
            </a:r>
            <a:r>
              <a:rPr b="0" lang="en-US" sz="2000" spc="-1" strike="noStrike">
                <a:solidFill>
                  <a:srgbClr val="66ffcc"/>
                </a:solidFill>
                <a:latin typeface="Tahoma"/>
              </a:rPr>
              <a:t>Верещакской средней общеобразовательной школ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Tahoma"/>
              </a:rPr>
              <a:t>                             </a:t>
            </a:r>
            <a:r>
              <a:rPr b="0" lang="en-US" sz="2000" spc="-1" strike="noStrike">
                <a:solidFill>
                  <a:srgbClr val="66ffcc"/>
                </a:solidFill>
                <a:latin typeface="Tahoma"/>
              </a:rPr>
              <a:t>Новозыбковского райо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Tahoma"/>
              </a:rPr>
              <a:t>                                 </a:t>
            </a:r>
            <a:r>
              <a:rPr b="0" lang="en-US" sz="2000" spc="-1" strike="noStrike">
                <a:solidFill>
                  <a:srgbClr val="66ffcc"/>
                </a:solidFill>
                <a:latin typeface="Tahoma"/>
              </a:rPr>
              <a:t>Брянской обла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55897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cc"/>
                </a:solidFill>
                <a:latin typeface="Arial"/>
              </a:rPr>
              <a:t>Руководитель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ffcc"/>
                </a:solidFill>
                <a:latin typeface="Arial"/>
              </a:rPr>
              <a:t>учитель истории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I </a:t>
            </a:r>
            <a:r>
              <a:rPr b="0" lang="ru-RU" sz="2000" spc="-1" strike="noStrike">
                <a:solidFill>
                  <a:srgbClr val="66ffcc"/>
                </a:solidFill>
                <a:latin typeface="Arial"/>
              </a:rPr>
              <a:t>категории Баханцов Николай Григорьеви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0"/>
                            </p:stCondLst>
                            <p:childTnLst>
                              <p:par>
                                <p:cTn id="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Цель работы: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4360" y="1125360"/>
            <a:ext cx="755964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Раскрыть особенность яркого, самобытного, музыкального диалекта села Вереща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Показать насколько сильны истинно песенные народные традиции в Верещак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Ведь начало искусства слова – в фольклоре. Нужно собирать наш фольклор, учиться на нем, обрабатывать его. Он очень много дает материала… Чем лучше мы будем знать прошлое, тем легче, тем более глубоко и радостно поймем великое значение творимого нами настоящег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Библиографический обзор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4360" y="2060640"/>
            <a:ext cx="8208720" cy="43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лавянина О. А. Народные песни. Брянск, 197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кимова Т. Н. О поэтической природе народной лирической песни. Саратов, 1966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Гусев В. Е. Эстетика фольклора. Л., 198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олпакова Н. П. Русская народная бытовая песня. М.-Л., 198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авельева Н. А. Записи фольклорных экспедиций Московской консерватор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5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План  исследовательской работы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58920" y="2060640"/>
            <a:ext cx="74898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1.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Введ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2. Библиографический обзо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3. Самобытность Верещакского песенного фолькло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4. Сегодняшний день Верещакского фолькло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5. Заключ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6. Литерату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4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4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4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4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4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4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500"/>
                            </p:stCondLst>
                            <p:childTnLst>
                              <p:par>
                                <p:cTn id="13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4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4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500"/>
                            </p:stCondLst>
                            <p:childTnLst>
                              <p:par>
                                <p:cTn id="14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4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4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500"/>
                            </p:stCondLst>
                            <p:childTnLst>
                              <p:par>
                                <p:cTn id="14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4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4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Самобытность музыкального диалекта села Верещаки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700280"/>
            <a:ext cx="9144000" cy="46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Фольклорно-этнографический коллектив «Карагод» Верещакского сельского Дома культуры известен фольклористами более 60 лет. Он был создан в октябре 1948 года. Творческая биография коллектива очень бога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ои земляки с большим успехом выступали на музыкально – этнографических концертах в Москве, Петербурге, Брянске, Гомеле и др. В 1991 году наши женщины исполняли свои песни на юбилейном концерте, посвященном 125-летию Московской консерватор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селе существовал всего один формульный напев, но в каждой группе или даже ряду могли петь свои слова. Не согласуясь при этом с другими; получалась своеобразная перекличка, в которой певицы гукали «вразнобой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собо нужно сказать о манере исполнения: песни поются в высоком регистре напряженным звуком, особенно, при пении на улице. Во многих песнях представлен старинный способ исполнения, когда начало следующего куплета «наступает» на конец предыдущего, и песня звучит непрерывно, в сплошном звуковом потоке, от начала до конц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627280" y="-360"/>
            <a:ext cx="2674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341360"/>
            <a:ext cx="907272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00ccff"/>
                </a:solidFill>
                <a:latin typeface="Tahoma"/>
              </a:rPr>
              <a:t>В своей работе я постарался показать самобытность Верещакского фольклора. Большая помощь была оказана мне нашими старейшими певунья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ff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00ccff"/>
                </a:solidFill>
                <a:latin typeface="Tahoma"/>
              </a:rPr>
              <a:t>Вполне понятно, что фольклор всей Брянской области значительно обширнее и богаче, чем представлен в предлагаемом объёме одного села. Однако и это богатство локальной территории является достаточно весомой составной частью областного устного народного творчест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ff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00ccff"/>
                </a:solidFill>
                <a:latin typeface="Tahoma"/>
              </a:rPr>
              <a:t>Помимо житейской мудрости, в песнях села Верещаки выражены лучшие нравственные качества русского народа, что имеет важное значение в воспитании молодого покол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ff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00ccff"/>
                </a:solidFill>
                <a:latin typeface="Tahoma"/>
              </a:rPr>
              <a:t>Я считаю, что в моих родных Верещаках, в моей любимой школе делается очень многое, чтобы приобщить наше подрастающее поколение к подлинной народной песенной культуре, чтобы познакомить с традиционными обрядами и праздник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ff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00ccff"/>
                </a:solidFill>
                <a:latin typeface="Tahoma"/>
              </a:rPr>
              <a:t>Фольклорному искусству сейчас тяжело соперничать с поп-музыкой, шоу-бизнесом, но которое благодаря энтузиастам всё-таки выживае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      </a:t>
            </a:r>
            <a:r>
              <a:rPr b="0" lang="en-US" sz="4400" spc="-1" strike="noStrike">
                <a:solidFill>
                  <a:srgbClr val="33cc33"/>
                </a:solidFill>
                <a:latin typeface="Arial"/>
              </a:rPr>
              <a:t>Верны традициям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4427640" cy="41990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716360" y="1628640"/>
            <a:ext cx="44276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4498920" cy="2828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672000" y="3789360"/>
            <a:ext cx="547200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10:44:05Z</dcterms:created>
  <dc:creator>Customer</dc:creator>
  <dc:description/>
  <dc:language>en-US</dc:language>
  <cp:lastModifiedBy>Customer</cp:lastModifiedBy>
  <dcterms:modified xsi:type="dcterms:W3CDTF">2011-04-05T11:44:56Z</dcterms:modified>
  <cp:revision>4</cp:revision>
  <dc:subject/>
  <dc:title>Цель работы</dc:title>
</cp:coreProperties>
</file>