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CC06-1764-4534-AB1F-56722281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3C94-E6A8-4153-B712-0B765078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AAF-A728-49BD-ACCD-76495F2D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07F-A429-48E4-85ED-A856282B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73B8-3D53-464E-878F-CAEFE455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E968-94EF-4A31-84B9-F326F818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108C-4001-4366-BE21-ABD15FA5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5639-637F-4F37-A94A-D2DB9645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84B2-B25F-4D5D-B0AD-04091C11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689E-E9A5-416D-974D-4CD277B6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5C49-C122-4DEF-AEA7-9995659E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453-14B4-4C2E-A51B-70A9EBE7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EF13-836B-41EF-89D0-E64C12BB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EF5D-2D9C-4DB7-ABD6-BC4E00A1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E71A-E7A8-4CE4-A6A5-BB3CE522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A7C8-E766-44B5-9F35-D9402542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97D9-6E15-41BF-82C8-834A06E6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F8E-92D1-4D77-AF2D-72F5FE48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3BB-A513-4127-A35E-3E78736E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77E-7AFD-4A50-982E-963D616B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3CD-9522-4900-8B83-EA027179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D21-AE9A-43A2-9F0D-DE5DF06E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F27-12AA-49A9-AE10-312821B5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E5B-8927-45BA-AC6E-FEA49847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3DB2-8F84-436E-8989-59E12FED8C3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7F1C-0469-4955-9F0F-F980E35E800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Свойства параллельных прямых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32000" y="1268280"/>
            <a:ext cx="6400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Цели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рассмотреть свойства параллельных прямых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рассмотреть применение свойств параллельных прямых к решению задач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познакомиться с понятиями: «теорема, обратная данной», «условие теоремы», «заключение теоремы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Закрепить знания, умения и навыки по теме «Аксиома параллельных прямых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ест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82263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) Вычеркнуть лишние слова в скобках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Аксиома – это (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очевидные, принятые. исходные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) положения геометрии, не требующие (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объяснений, доказательств, обоснований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) Выбрать окончание формулировки аксиомы параллельных прямых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Через точку, не лежащую на данной прямой, проходит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А) только одна прямая, параллельная данной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Б) всегда проходит прямая, параллельная данной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) только одна прямая, не пересекающаяся с данн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-5224680"/>
            <a:ext cx="2998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0920" y="2599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) Что может быть следствием аксиомы или теоремы? Указать неверные ответ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А) Утверждение не требующее доказательств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Б) Новая теорема, для доказательства которой использована аксиома или теорем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) Утверждение, непосредственно выводимое из аксиомы или теорем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-5013720"/>
            <a:ext cx="2998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000" y="188640"/>
            <a:ext cx="82263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) Указать следствия аксиомы параллельных прямых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А) Если отрезок или луч пересекает одну из параллельных прямых, то он пересекает и другую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Б) Если две прямые параллельны третьей прямой, то они параллельны друг друг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) Если прямая пересекает одну из параллельных прямых, то она пересекает и другую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Г) Если три прямые параллельны, то любые две из них параллельны друг друг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) Если две прямые не параллельны третьей прямой, то они не параллельны между соб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-5085360"/>
            <a:ext cx="228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8226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5) Указать правильный ответ на вопрос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Если через точку, лежащую вне прямой, проведено несколько прямых, то сколько из них пересекаются с исходной прямой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А) Неизвестно, т. к. не сказано, сколько прямых проведено через точк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Б) Все, кроме параллельной прямо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) Все, которые имеют на рисунке точку пересечения с исходной прямо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-4989960"/>
            <a:ext cx="228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000" y="476280"/>
            <a:ext cx="7489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)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очевидные, принятые, объяснений, обоснований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85680" indent="-85680">
              <a:spcBef>
                <a:spcPts val="2001"/>
              </a:spcBef>
              <a:buClr>
                <a:srgbClr val="eaeaea"/>
              </a:buClr>
              <a:buSzPct val="115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А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8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3) А), Б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8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4) Б), В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8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5) Б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8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856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4292640"/>
            <a:ext cx="21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7120" y="4149720"/>
            <a:ext cx="183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Доказать: АВ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С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4360" y="2492280"/>
            <a:ext cx="482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11280" y="3933720"/>
            <a:ext cx="5185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1557360"/>
            <a:ext cx="2376360" cy="3240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68360" y="1989000"/>
            <a:ext cx="7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00720" y="198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48360" y="198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40000" y="3357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80000" y="3357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6000" y="3357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32360" y="2637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30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56000" y="3429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30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Дано: АВ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С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Найти: ∟ЕКС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00360" y="2924280"/>
            <a:ext cx="4896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4360" y="4581360"/>
            <a:ext cx="5256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67280" y="1989000"/>
            <a:ext cx="2520720" cy="3527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36000" y="4076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27280" y="2492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59280" y="2492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164360" y="2492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27280" y="407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4149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3068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03640" y="407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08000" y="0"/>
          <a:ext cx="8856720" cy="6381720"/>
        </p:xfrm>
        <a:graphic>
          <a:graphicData uri="http://schemas.openxmlformats.org/drawingml/2006/table">
            <a:tbl>
              <a:tblPr/>
              <a:tblGrid>
                <a:gridCol w="2476440"/>
                <a:gridCol w="3321000"/>
                <a:gridCol w="3059280"/>
              </a:tblGrid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звание теорем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изнак параллельности прямых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войства параллельных прямых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Формулировка теорем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сли при пересечении двух прямых секущей накрест лежащие углы равны, то прямые параллельн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сли две параллельные прямые пересечены секущей, то накрест лежащие углы равн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5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Условие (дано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ямые а,в, с – сек.; ∟1=∟2 – накрест лежащ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ямые а,в, с – сек.; ∟1,∟2 – накрест лежащ., а 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аключение (доказать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 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∟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 = ∟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3780000" y="4076640"/>
            <a:ext cx="194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08360" y="4724280"/>
            <a:ext cx="2089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56000" y="3860640"/>
            <a:ext cx="649440" cy="1008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364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5280" y="4292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56000" y="364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43280" y="4076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27640" y="43657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88000" y="4076640"/>
            <a:ext cx="1944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16720" y="4724280"/>
            <a:ext cx="2016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36000" y="3716280"/>
            <a:ext cx="792000" cy="1368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16720" y="3716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16720" y="4292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80360" y="3573360"/>
            <a:ext cx="3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7596360" y="4076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365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4:35:06Z</dcterms:created>
  <dc:creator>FuckYouBill</dc:creator>
  <dc:description/>
  <dc:language>en-US</dc:language>
  <cp:lastModifiedBy>FuckYouBill</cp:lastModifiedBy>
  <dcterms:modified xsi:type="dcterms:W3CDTF">2010-01-22T17:07:31Z</dcterms:modified>
  <cp:revision>5</cp:revision>
  <dc:subject/>
  <dc:title>Свойства параллельных прямых </dc:title>
</cp:coreProperties>
</file>